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4F444F-767B-4FD6-B1BA-85D0FD08D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00A791-434F-49D0-AC54-61F3ABFE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8FB8CF-EDCF-4E09-89FE-0A293FC9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16EC4A-536E-4A27-AD00-776D5987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A4C-EE19-4527-B012-FA1FFEF2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A5E-2761-4D2C-8019-C5B8493B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78E-30E3-4AA1-A343-4E29429A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A2A-92E4-4E05-8656-444DFBC0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D34-114F-40F2-B845-00B3193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B83-3DE3-400C-A81B-8DBB6EEF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C8E-D0AD-4174-9BCC-AAFA24A6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0BB-4AA9-40A3-B857-0E2BA392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B1D-3975-4B07-8052-448B80D1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C21-988D-49E8-8B04-49EDCC0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21C-2F65-4B17-9729-49219C1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A5B-600C-441E-9120-243667F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EB44-2E72-40BB-9CF1-C33E08E3B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zgzim5m7o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8klKdhNop8" TargetMode="External"/><Relationship Id="rId2" Type="http://schemas.openxmlformats.org/officeDocument/2006/relationships/hyperlink" Target="http://prezi.com/66g7oobhs8xi/metacognitio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cff9"/>
                </a:solidFill>
                <a:latin typeface="Calibri"/>
              </a:rPr>
              <a:t>Strategies for Deepening Comprehension: </a:t>
            </a:r>
            <a:br>
              <a:rPr sz="4400"/>
            </a:br>
            <a:r>
              <a:rPr b="1" i="1" lang="en-US" sz="4400" spc="-1" strike="noStrike">
                <a:solidFill>
                  <a:srgbClr val="9aea7a"/>
                </a:solidFill>
                <a:latin typeface="Calibri"/>
              </a:rPr>
              <a:t>Enabling Your Students to Have an Aha! Moment</a:t>
            </a:r>
            <a:r>
              <a:rPr b="0" i="1" lang="en-US" sz="4400" spc="-1" strike="noStrike">
                <a:solidFill>
                  <a:srgbClr val="3b78d1"/>
                </a:solidFill>
                <a:latin typeface="Calibri"/>
              </a:rPr>
              <a:t> </a:t>
            </a:r>
            <a:br>
              <a:rPr sz="7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s. Molly Cauteruc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s. Karen Sando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puzzle"/>
          <p:cNvPicPr/>
          <p:nvPr/>
        </p:nvPicPr>
        <p:blipFill>
          <a:blip r:embed="rId1"/>
          <a:stretch/>
        </p:blipFill>
        <p:spPr>
          <a:xfrm>
            <a:off x="2819520" y="3076560"/>
            <a:ext cx="34290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uzzle"/>
          <p:cNvPicPr/>
          <p:nvPr/>
        </p:nvPicPr>
        <p:blipFill>
          <a:blip r:embed="rId1"/>
          <a:stretch/>
        </p:blipFill>
        <p:spPr>
          <a:xfrm>
            <a:off x="1371600" y="2514600"/>
            <a:ext cx="6400800" cy="3865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0" y="0"/>
            <a:ext cx="914400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Freestyle Script"/>
              </a:rPr>
              <a:t>PUZZL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hat strategies did your group members use to complete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hat were your reactions and thoughts while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How did you talk yourself through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502023-2.jpg"/>
          <p:cNvPicPr/>
          <p:nvPr/>
        </p:nvPicPr>
        <p:blipFill>
          <a:blip r:embed="rId1"/>
          <a:stretch/>
        </p:blipFill>
        <p:spPr>
          <a:xfrm>
            <a:off x="1447920" y="1600200"/>
            <a:ext cx="6318000" cy="4952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362320" y="3808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Little Things are B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titcherladyxx080100103.jpg"/>
          <p:cNvPicPr/>
          <p:nvPr/>
        </p:nvPicPr>
        <p:blipFill>
          <a:blip r:embed="rId1"/>
          <a:stretch/>
        </p:blipFill>
        <p:spPr>
          <a:xfrm>
            <a:off x="2590920" y="228600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295280" y="9907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Story Cha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"/>
          <p:cNvSpPr/>
          <p:nvPr/>
        </p:nvSpPr>
        <p:spPr>
          <a:xfrm>
            <a:off x="380880" y="1143000"/>
            <a:ext cx="8382240" cy="5562720"/>
          </a:xfrm>
          <a:custGeom>
            <a:avLst/>
            <a:gdLst>
              <a:gd name="textAreaLeft" fmla="*/ 360360 w 8382240"/>
              <a:gd name="textAreaRight" fmla="*/ 8021880 w 838224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2547" h="21600">
                <a:moveTo>
                  <a:pt x="0" y="0"/>
                </a:moveTo>
                <a:lnTo>
                  <a:pt x="32547" y="0"/>
                </a:lnTo>
                <a:lnTo>
                  <a:pt x="32547" y="21600"/>
                </a:lnTo>
                <a:lnTo>
                  <a:pt x="0" y="21600"/>
                </a:lnTo>
                <a:close/>
              </a:path>
              <a:path fill="lightenLess" w="32547" h="21600">
                <a:moveTo>
                  <a:pt x="0" y="0"/>
                </a:moveTo>
                <a:lnTo>
                  <a:pt x="32547" y="0"/>
                </a:lnTo>
                <a:lnTo>
                  <a:pt x="31147" y="1400"/>
                </a:lnTo>
                <a:lnTo>
                  <a:pt x="1400" y="1400"/>
                </a:lnTo>
                <a:close/>
              </a:path>
              <a:path fill="darken" w="32547" h="21600">
                <a:moveTo>
                  <a:pt x="32547" y="0"/>
                </a:moveTo>
                <a:lnTo>
                  <a:pt x="32547" y="21600"/>
                </a:lnTo>
                <a:lnTo>
                  <a:pt x="31147" y="20200"/>
                </a:lnTo>
                <a:lnTo>
                  <a:pt x="31147" y="1400"/>
                </a:lnTo>
                <a:close/>
              </a:path>
              <a:path fill="darkenLess" w="32547" h="21600">
                <a:moveTo>
                  <a:pt x="32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7" y="20200"/>
                </a:lnTo>
                <a:close/>
              </a:path>
              <a:path fill="lighten" w="32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47" h="21600">
                <a:moveTo>
                  <a:pt x="9267" y="7301"/>
                </a:moveTo>
                <a:lnTo>
                  <a:pt x="10181" y="7301"/>
                </a:lnTo>
                <a:lnTo>
                  <a:pt x="10564" y="7667"/>
                </a:lnTo>
                <a:lnTo>
                  <a:pt x="19773" y="7667"/>
                </a:lnTo>
                <a:lnTo>
                  <a:pt x="20330" y="8224"/>
                </a:lnTo>
                <a:lnTo>
                  <a:pt x="20330" y="8772"/>
                </a:lnTo>
                <a:lnTo>
                  <a:pt x="22175" y="8772"/>
                </a:lnTo>
                <a:lnTo>
                  <a:pt x="22540" y="8224"/>
                </a:lnTo>
                <a:lnTo>
                  <a:pt x="23280" y="8224"/>
                </a:lnTo>
                <a:lnTo>
                  <a:pt x="23280" y="13376"/>
                </a:lnTo>
                <a:lnTo>
                  <a:pt x="22540" y="13376"/>
                </a:lnTo>
                <a:lnTo>
                  <a:pt x="22175" y="12828"/>
                </a:lnTo>
                <a:lnTo>
                  <a:pt x="20330" y="12828"/>
                </a:lnTo>
                <a:lnTo>
                  <a:pt x="20330" y="14107"/>
                </a:lnTo>
                <a:lnTo>
                  <a:pt x="10747" y="14107"/>
                </a:lnTo>
                <a:lnTo>
                  <a:pt x="10747" y="9877"/>
                </a:lnTo>
                <a:lnTo>
                  <a:pt x="10564" y="9877"/>
                </a:lnTo>
                <a:lnTo>
                  <a:pt x="10181" y="10243"/>
                </a:lnTo>
                <a:lnTo>
                  <a:pt x="9267" y="1024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371600" y="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d5"/>
                </a:solidFill>
                <a:latin typeface="Freestyle Script"/>
              </a:rPr>
              <a:t>Thinking about cheating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90720" y="38088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estyle Script"/>
              </a:rPr>
              <a:t>Using Op-Ed cartoons to teach higher order critical thin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cse.buffalo.edu/~rapaport/575/F07/Zits-20051018-metacognition.gif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serc.carleton.edu/images/NAGTWorkshops/earlycareer/teaching/learning_styles.jpg"/>
          <p:cNvPicPr/>
          <p:nvPr/>
        </p:nvPicPr>
        <p:blipFill>
          <a:blip r:embed="rId1"/>
          <a:stretch/>
        </p:blipFill>
        <p:spPr>
          <a:xfrm>
            <a:off x="380880" y="685800"/>
            <a:ext cx="73803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unco.edu/cebs/psychology/kevinpugh/motivation_project/347_sum07/final/SelfRegulation/calvininterestinschool.jpg"/>
          <p:cNvPicPr/>
          <p:nvPr/>
        </p:nvPicPr>
        <p:blipFill>
          <a:blip r:embed="rId1"/>
          <a:stretch/>
        </p:blipFill>
        <p:spPr>
          <a:xfrm>
            <a:off x="228600" y="1981080"/>
            <a:ext cx="86104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unco.edu/cebs/psychology/kevinpugh/motivation_project/347_sum07/final/SelfRegulation/calvinsnake.gif"/>
          <p:cNvPicPr/>
          <p:nvPr/>
        </p:nvPicPr>
        <p:blipFill>
          <a:blip r:embed="rId1"/>
          <a:stretch/>
        </p:blipFill>
        <p:spPr>
          <a:xfrm>
            <a:off x="380880" y="838080"/>
            <a:ext cx="84013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219320" y="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d5"/>
                </a:solidFill>
                <a:latin typeface="Freestyle Script"/>
              </a:rPr>
              <a:t>Implications for instr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144792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cognitive development supports students' internalization of strategies. It does this through a conscious focus on the implementation of plans of attack. Metacognitive development fosters student autonomy through self-monitoring and self-assessment (Walqui, 1992). An example is teaching what a "good" reader does as he or she re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312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arngen.org/Resources/lgend101_norm1/3000/3100_4/3130/3131alias2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http://1.bp.blogspot.com/_mLL990zi8EM/TLBsNjCILeI/AAAAAAAAACw/JAq_WdXMM20/s1600/IMG_1940.JPG"/>
          <p:cNvPicPr/>
          <p:nvPr/>
        </p:nvPicPr>
        <p:blipFill>
          <a:blip r:embed="rId1"/>
          <a:stretch/>
        </p:blipFill>
        <p:spPr>
          <a:xfrm>
            <a:off x="304920" y="4114800"/>
            <a:ext cx="3295440" cy="240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1.bp.blogspot.com/_mLL990zi8EM/TLHeT96eJfI/AAAAAAAAADI/eliHzyFrIo0/s1600/IMG_2073.JPG"/>
          <p:cNvPicPr/>
          <p:nvPr/>
        </p:nvPicPr>
        <p:blipFill>
          <a:blip r:embed="rId2"/>
          <a:stretch/>
        </p:blipFill>
        <p:spPr>
          <a:xfrm>
            <a:off x="3733920" y="4114800"/>
            <a:ext cx="3295440" cy="219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mage 05"/>
          <p:cNvPicPr/>
          <p:nvPr/>
        </p:nvPicPr>
        <p:blipFill>
          <a:blip r:embed="rId3"/>
          <a:stretch/>
        </p:blipFill>
        <p:spPr>
          <a:xfrm>
            <a:off x="6324480" y="44197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c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1981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puzzle"/>
          <p:cNvPicPr/>
          <p:nvPr/>
        </p:nvPicPr>
        <p:blipFill>
          <a:blip r:embed="rId1"/>
          <a:stretch/>
        </p:blipFill>
        <p:spPr>
          <a:xfrm>
            <a:off x="685800" y="1828800"/>
            <a:ext cx="7620120" cy="4600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819520" y="609480"/>
            <a:ext cx="3324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ploration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22860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ies for Deepening Compreh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 Your Students to Have an Aha!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esented by Karen Sandoz and Molly Cauteru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ay 1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:00 a.m. – 3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.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      Welcome!  Intro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I.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      Anticipator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The Power of Words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uzzles and Meta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Work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4d19"/>
                </a:solidFill>
                <a:latin typeface="Arial"/>
              </a:rPr>
              <a:t>~ LUNCH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sing Op-Ed cartoons to teach higher order critic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To make an individual metacognitively aware is to ensure that the individual has learned how to learn."   (Garner)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http://www.vbschools.com/sol/images/sol_325.jpg"/>
          <p:cNvPicPr/>
          <p:nvPr/>
        </p:nvPicPr>
        <p:blipFill>
          <a:blip r:embed="rId1"/>
          <a:stretch/>
        </p:blipFill>
        <p:spPr>
          <a:xfrm>
            <a:off x="5791320" y="2133720"/>
            <a:ext cx="2438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metahead"/>
          <p:cNvPicPr/>
          <p:nvPr/>
        </p:nvPicPr>
        <p:blipFill>
          <a:blip r:embed="rId1"/>
          <a:stretch/>
        </p:blipFill>
        <p:spPr>
          <a:xfrm>
            <a:off x="3352680" y="533520"/>
            <a:ext cx="252756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2209680" y="4648320"/>
            <a:ext cx="487692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228600" y="533520"/>
            <a:ext cx="86868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nticipatory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judge if you have learned specific mater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self-evaluate throughout the learning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metacognitive strategies that you have used to enhance your students’ comprehen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etahead"/>
          <p:cNvPicPr/>
          <p:nvPr/>
        </p:nvPicPr>
        <p:blipFill>
          <a:blip r:embed="rId1"/>
          <a:stretch/>
        </p:blipFill>
        <p:spPr>
          <a:xfrm>
            <a:off x="6399360" y="228600"/>
            <a:ext cx="1617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f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>
            <a:hlinkClick r:id="rId1"/>
          </p:cNvPr>
          <p:cNvSpPr/>
          <p:nvPr/>
        </p:nvSpPr>
        <p:spPr>
          <a:xfrm>
            <a:off x="609480" y="1828800"/>
            <a:ext cx="8001000" cy="4724280"/>
          </a:xfrm>
          <a:custGeom>
            <a:avLst/>
            <a:gdLst>
              <a:gd name="textAreaLeft" fmla="*/ 306000 w 8001000"/>
              <a:gd name="textAreaRight" fmla="*/ 7695000 w 8001000"/>
              <a:gd name="textAreaTop" fmla="*/ 306000 h 4724280"/>
              <a:gd name="textAreaBottom" fmla="*/ 4418280 h 4724280"/>
            </a:gdLst>
            <a:ahLst/>
            <a:rect l="textAreaLeft" t="textAreaTop" r="textAreaRight" b="textAreaBottom"/>
            <a:pathLst>
              <a:path w="36580" h="21600">
                <a:moveTo>
                  <a:pt x="0" y="0"/>
                </a:moveTo>
                <a:lnTo>
                  <a:pt x="36580" y="0"/>
                </a:lnTo>
                <a:lnTo>
                  <a:pt x="36580" y="21600"/>
                </a:lnTo>
                <a:lnTo>
                  <a:pt x="0" y="21600"/>
                </a:lnTo>
                <a:close/>
              </a:path>
              <a:path fill="lightenLess" w="36580" h="21600">
                <a:moveTo>
                  <a:pt x="0" y="0"/>
                </a:moveTo>
                <a:lnTo>
                  <a:pt x="36580" y="0"/>
                </a:lnTo>
                <a:lnTo>
                  <a:pt x="35180" y="1400"/>
                </a:lnTo>
                <a:lnTo>
                  <a:pt x="1400" y="1400"/>
                </a:lnTo>
                <a:close/>
              </a:path>
              <a:path fill="darken" w="36580" h="21600">
                <a:moveTo>
                  <a:pt x="36580" y="0"/>
                </a:moveTo>
                <a:lnTo>
                  <a:pt x="36580" y="21600"/>
                </a:lnTo>
                <a:lnTo>
                  <a:pt x="35180" y="20200"/>
                </a:lnTo>
                <a:lnTo>
                  <a:pt x="35180" y="1400"/>
                </a:lnTo>
                <a:close/>
              </a:path>
              <a:path fill="darkenLess" w="36580" h="21600">
                <a:moveTo>
                  <a:pt x="36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80" y="20200"/>
                </a:lnTo>
                <a:close/>
              </a:path>
              <a:path fill="lighten" w="36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80" h="21600">
                <a:moveTo>
                  <a:pt x="11284" y="7301"/>
                </a:moveTo>
                <a:lnTo>
                  <a:pt x="12198" y="7301"/>
                </a:lnTo>
                <a:lnTo>
                  <a:pt x="12581" y="7667"/>
                </a:lnTo>
                <a:lnTo>
                  <a:pt x="21789" y="7667"/>
                </a:lnTo>
                <a:lnTo>
                  <a:pt x="22346" y="8224"/>
                </a:lnTo>
                <a:lnTo>
                  <a:pt x="22346" y="8772"/>
                </a:lnTo>
                <a:lnTo>
                  <a:pt x="24191" y="8772"/>
                </a:lnTo>
                <a:lnTo>
                  <a:pt x="24557" y="8224"/>
                </a:lnTo>
                <a:lnTo>
                  <a:pt x="25297" y="8224"/>
                </a:lnTo>
                <a:lnTo>
                  <a:pt x="25297" y="13376"/>
                </a:lnTo>
                <a:lnTo>
                  <a:pt x="24557" y="13376"/>
                </a:lnTo>
                <a:lnTo>
                  <a:pt x="24191" y="12828"/>
                </a:lnTo>
                <a:lnTo>
                  <a:pt x="22346" y="12828"/>
                </a:lnTo>
                <a:lnTo>
                  <a:pt x="22346" y="14107"/>
                </a:lnTo>
                <a:lnTo>
                  <a:pt x="12763" y="14107"/>
                </a:lnTo>
                <a:lnTo>
                  <a:pt x="12763" y="9877"/>
                </a:lnTo>
                <a:lnTo>
                  <a:pt x="12581" y="9877"/>
                </a:lnTo>
                <a:lnTo>
                  <a:pt x="12198" y="10243"/>
                </a:lnTo>
                <a:lnTo>
                  <a:pt x="11284" y="1024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280" y="533520"/>
            <a:ext cx="885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Freestyle Script"/>
              </a:rPr>
              <a:t>The Power of Wo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4920" y="6858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</a:rPr>
              <a:t>The latest National Assessment of Educational Progress shows that </a:t>
            </a:r>
            <a:r>
              <a:rPr b="1" lang="en-US" sz="3200" spc="-1" strike="noStrike" u="sng">
                <a:solidFill>
                  <a:srgbClr val="eeece1"/>
                </a:solidFill>
                <a:uFillTx/>
                <a:latin typeface="Arial"/>
              </a:rPr>
              <a:t>32 percent</a:t>
            </a:r>
            <a:r>
              <a:rPr b="0" lang="en-US" sz="3200" spc="-1" strike="noStrike">
                <a:solidFill>
                  <a:srgbClr val="eeece1"/>
                </a:solidFill>
                <a:latin typeface="Arial"/>
              </a:rPr>
              <a:t> of students entering high school are not proficient readers...“ (http://educationnorthwest.org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WOFROGS"/>
          <p:cNvPicPr/>
          <p:nvPr/>
        </p:nvPicPr>
        <p:blipFill>
          <a:blip r:embed="rId1"/>
          <a:stretch/>
        </p:blipFill>
        <p:spPr>
          <a:xfrm>
            <a:off x="3505320" y="2895480"/>
            <a:ext cx="2263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asztalville.net/weblog/wp-content/uploads/2010/10/metacognition1.gif"/>
          <p:cNvPicPr/>
          <p:nvPr/>
        </p:nvPicPr>
        <p:blipFill>
          <a:blip r:embed="rId1"/>
          <a:stretch/>
        </p:blipFill>
        <p:spPr>
          <a:xfrm>
            <a:off x="228600" y="1828800"/>
            <a:ext cx="863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4920" y="152280"/>
            <a:ext cx="84582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ff9"/>
                </a:solidFill>
                <a:latin typeface="Times New Roman"/>
              </a:rPr>
              <a:t>Meta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One of the first definitions of metacognition comes from Flavell (1976), who describes it as ‘</a:t>
            </a:r>
            <a:r>
              <a:rPr b="1" lang="en-US" sz="3200" spc="-1" strike="noStrike" u="sng">
                <a:solidFill>
                  <a:srgbClr val="efcff9"/>
                </a:solidFill>
                <a:uFillTx/>
                <a:latin typeface="Times New Roman"/>
              </a:rPr>
              <a:t>one’s knowledge concerning one’s own cognitive processes and products or anything related to them’.</a:t>
            </a: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He also asserts that metacognition includes </a:t>
            </a:r>
            <a:r>
              <a:rPr b="1" lang="en-US" sz="3200" spc="-1" strike="noStrike" u="sng">
                <a:solidFill>
                  <a:srgbClr val="efcff9"/>
                </a:solidFill>
                <a:uFillTx/>
                <a:latin typeface="Times New Roman"/>
              </a:rPr>
              <a:t>‘the active monitoring and consequent regulation and orchestration’ of information processing activities</a:t>
            </a: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 (Flavell 1976: 23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f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>
            <a:hlinkClick r:id="rId1"/>
          </p:cNvPr>
          <p:cNvSpPr/>
          <p:nvPr/>
        </p:nvSpPr>
        <p:spPr>
          <a:xfrm>
            <a:off x="609480" y="990720"/>
            <a:ext cx="7696440" cy="4952880"/>
          </a:xfrm>
          <a:custGeom>
            <a:avLst/>
            <a:gdLst>
              <a:gd name="textAreaLeft" fmla="*/ 320760 w 7696440"/>
              <a:gd name="textAreaRight" fmla="*/ 7375680 w 7696440"/>
              <a:gd name="textAreaTop" fmla="*/ 320760 h 4952880"/>
              <a:gd name="textAreaBottom" fmla="*/ 4632120 h 4952880"/>
            </a:gdLst>
            <a:ahLst/>
            <a:rect l="textAreaLeft" t="textAreaTop" r="textAreaRight" b="textAreaBottom"/>
            <a:pathLst>
              <a:path w="33564" h="21600">
                <a:moveTo>
                  <a:pt x="0" y="0"/>
                </a:moveTo>
                <a:lnTo>
                  <a:pt x="33564" y="0"/>
                </a:lnTo>
                <a:lnTo>
                  <a:pt x="33564" y="21600"/>
                </a:lnTo>
                <a:lnTo>
                  <a:pt x="0" y="21600"/>
                </a:lnTo>
                <a:close/>
              </a:path>
              <a:path fill="lightenLess" w="33564" h="21600">
                <a:moveTo>
                  <a:pt x="0" y="0"/>
                </a:moveTo>
                <a:lnTo>
                  <a:pt x="33564" y="0"/>
                </a:lnTo>
                <a:lnTo>
                  <a:pt x="32164" y="1400"/>
                </a:lnTo>
                <a:lnTo>
                  <a:pt x="1400" y="1400"/>
                </a:lnTo>
                <a:close/>
              </a:path>
              <a:path fill="darken" w="33564" h="21600">
                <a:moveTo>
                  <a:pt x="33564" y="0"/>
                </a:moveTo>
                <a:lnTo>
                  <a:pt x="33564" y="21600"/>
                </a:lnTo>
                <a:lnTo>
                  <a:pt x="32164" y="20200"/>
                </a:lnTo>
                <a:lnTo>
                  <a:pt x="32164" y="1400"/>
                </a:lnTo>
                <a:close/>
              </a:path>
              <a:path fill="darkenLess" w="33564" h="21600">
                <a:moveTo>
                  <a:pt x="33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4" y="20200"/>
                </a:lnTo>
                <a:close/>
              </a:path>
              <a:path fill="lighten" w="33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4" h="21600">
                <a:moveTo>
                  <a:pt x="9776" y="7301"/>
                </a:moveTo>
                <a:lnTo>
                  <a:pt x="10689" y="7301"/>
                </a:lnTo>
                <a:lnTo>
                  <a:pt x="11072" y="7667"/>
                </a:lnTo>
                <a:lnTo>
                  <a:pt x="20281" y="7667"/>
                </a:lnTo>
                <a:lnTo>
                  <a:pt x="20838" y="8224"/>
                </a:lnTo>
                <a:lnTo>
                  <a:pt x="20838" y="8772"/>
                </a:lnTo>
                <a:lnTo>
                  <a:pt x="22683" y="8772"/>
                </a:lnTo>
                <a:lnTo>
                  <a:pt x="23049" y="8224"/>
                </a:lnTo>
                <a:lnTo>
                  <a:pt x="23789" y="8224"/>
                </a:lnTo>
                <a:lnTo>
                  <a:pt x="23789" y="13376"/>
                </a:lnTo>
                <a:lnTo>
                  <a:pt x="23049" y="13376"/>
                </a:lnTo>
                <a:lnTo>
                  <a:pt x="22683" y="12828"/>
                </a:lnTo>
                <a:lnTo>
                  <a:pt x="20838" y="12828"/>
                </a:lnTo>
                <a:lnTo>
                  <a:pt x="20838" y="14107"/>
                </a:lnTo>
                <a:lnTo>
                  <a:pt x="11255" y="14107"/>
                </a:lnTo>
                <a:lnTo>
                  <a:pt x="11255" y="9877"/>
                </a:lnTo>
                <a:lnTo>
                  <a:pt x="11072" y="9877"/>
                </a:lnTo>
                <a:lnTo>
                  <a:pt x="10689" y="10243"/>
                </a:lnTo>
                <a:lnTo>
                  <a:pt x="9776" y="1024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Freestyle Script"/>
              </a:rPr>
              <a:t>Metacognition:  Learning about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82880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rezi.com/66g7oobhs8xi/metacognitio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04920" y="3049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enough agreement of the definition of the word ‘game’ so it can be used as an adequate metaphor for life or at least some aspects of life? I believe every game has some sort of strategy.  Given that every player suspends disbelief and enters the spirit of the game, every player has a method in which they use to seek to win the game.   What is your method? What is your strateg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 Bi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sciblogs.co.nz/guestwork/files/2010/03/brain1.jpg"/>
          <p:cNvPicPr/>
          <p:nvPr/>
        </p:nvPicPr>
        <p:blipFill>
          <a:blip r:embed="rId1"/>
          <a:stretch/>
        </p:blipFill>
        <p:spPr>
          <a:xfrm>
            <a:off x="2286000" y="4191120"/>
            <a:ext cx="23623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3:45Z</dcterms:created>
  <dc:creator>Karen LaViola</dc:creator>
  <dc:description/>
  <dc:language>en-US</dc:language>
  <cp:lastModifiedBy>Jason LaViola</cp:lastModifiedBy>
  <dcterms:modified xsi:type="dcterms:W3CDTF">2011-05-13T01:56:31Z</dcterms:modified>
  <cp:revision>88</cp:revision>
  <dc:subject/>
  <dc:title>Slide 1</dc:title>
</cp:coreProperties>
</file>